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CA47-A773-420A-A25B-5A4C7CA1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9F1-FBB3-4CC6-B219-A3248007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18E-F602-4363-9522-F0785298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C682-E94F-499C-B508-3EBDFE37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A9D-A7E2-465A-BAA8-C1156C4B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D590-B9DE-4697-8ED6-8800A8C0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6A9-9116-4694-BA9C-B1AA87D0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3A2-A7F6-4A53-B8CD-5E65A03C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9BC-43DB-4BB9-92C3-4FCBBA23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E93-55C2-4A8D-95A1-B662910C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EAC9-D814-472F-AAD3-175F398B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566-8DA2-4BB7-82DC-09292465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C0AC-17A9-4771-8F35-23C7CAF76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0 Pán Ježiš je pre mň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jdrahš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rád ma m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o mňa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Priateľ mô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pre mňa najdrahš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celom svete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jeho meno vzácne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milo srdcu z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nad hlavou m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erny mra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pieram k nebu viery zra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mútok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ší ma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ateľ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tíši bole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úcit so mnou m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pokoj svoj mi dar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biedu moju z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kúsil s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ždycky vč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siela pomoc zas a z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idem tm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predo mn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Priateľ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je môj záchranc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 ním chcem verne í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jemu z lásky, vďač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život zasvät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je môj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dobre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mu za všetko ďakuj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21:31:06Z</dcterms:created>
  <dc:creator>MD</dc:creator>
  <dc:description/>
  <dc:language>en-US</dc:language>
  <cp:lastModifiedBy>MD</cp:lastModifiedBy>
  <dcterms:modified xsi:type="dcterms:W3CDTF">2000-10-11T20:21:11Z</dcterms:modified>
  <cp:revision>3</cp:revision>
  <dc:subject/>
  <dc:title>Bez nadpisu</dc:title>
</cp:coreProperties>
</file>